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D1201-F6A3-4379-84C4-A09CB7B45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A18C2-33DC-47BB-BBF7-CBB65BF2C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E2DA0-285A-4753-B7B4-5A124D5C4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30A93-E3AE-414D-9EA5-295D55E30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0CC01-155C-40CF-B254-153D1D555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75948-3A61-4697-9282-C446AA4E2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F2704-F5C0-4D05-9A89-1F48ADE19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1E5F0-B3B1-4717-9996-168E4EBF8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D8EF8-DB28-4F62-AECC-0BCC4DE67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693A3-22AD-4D20-9082-CAC43DF30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690B3-071E-4068-9D9F-D0C386AC4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11711-2D3F-4094-89AC-6F2CB1DC0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5172-2276-4C92-ADBC-194CAA408A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8839080" cy="10092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Simplified Arabic"/>
              </a:rPr>
              <a:t>أيها الملك السماوي المعزي، روح الحق، الحاضر في كل مكان والماليء الكل، كنز الصالحات ، وواهب الحياة، هلم واسكن فينا، وطهرنا من كل دنس، وخلص، أيها الصالح، نفوسنا.</a:t>
            </a:r>
            <a:endParaRPr b="0" lang="en-US" sz="4000" spc="-1" strike="noStrike">
              <a:solidFill>
                <a:srgbClr val="000000"/>
              </a:solidFill>
              <a:latin typeface="Times New Roman"/>
            </a:endParaRPr>
          </a:p>
          <a:p>
            <a:pPr algn="r" rtl="1">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Simplified Arabic"/>
              </a:rPr>
              <a:t>المجد لله في العلى، وعلى الأرض السلام، وفي الناس المسرة </a:t>
            </a:r>
            <a:r>
              <a:rPr b="1" i="1" lang="ar-SA" sz="4000" spc="-1" strike="noStrike">
                <a:solidFill>
                  <a:srgbClr val="ff0000"/>
                </a:solidFill>
                <a:latin typeface="Simplified Arabic"/>
              </a:rPr>
              <a:t>(مرتين)</a:t>
            </a:r>
            <a:endParaRPr b="0" lang="en-US" sz="4000" spc="-1" strike="noStrike">
              <a:solidFill>
                <a:srgbClr val="000000"/>
              </a:solidFill>
              <a:latin typeface="Times New Roman"/>
            </a:endParaRPr>
          </a:p>
          <a:p>
            <a:pPr algn="r" rtl="1">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Times New Roman"/>
              </a:rPr>
              <a:t>يا رب افتح شفتي، فيذيع فمي تسبيحك</a:t>
            </a:r>
            <a:endParaRPr b="0" lang="en-US" sz="40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Simplified Arabic"/>
                <a:cs typeface="Simplified Arabic"/>
              </a:rPr>
              <a:t>الكاهن:</a:t>
            </a:r>
            <a:r>
              <a:rPr b="1" lang="ar-SA" sz="4000" spc="-1" strike="noStrike">
                <a:solidFill>
                  <a:srgbClr val="ff0000"/>
                </a:solidFill>
                <a:latin typeface="Simplified Arabic"/>
                <a:ea typeface="Simplified Arabic"/>
              </a:rPr>
              <a:t>	</a:t>
            </a:r>
            <a:r>
              <a:rPr b="1" lang="ar-SA" sz="4000" spc="-1" strike="noStrike">
                <a:solidFill>
                  <a:srgbClr val="000000"/>
                </a:solidFill>
                <a:latin typeface="Simplified Arabic"/>
                <a:cs typeface="Simplified Arabic"/>
              </a:rPr>
              <a:t>مباركة مملكة الآب والابن والروح القدس، الآن وكل أوان وإلى دهر الداهري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الشعب: </a:t>
            </a:r>
            <a:r>
              <a:rPr b="1" i="1" lang="ar-SA" sz="4000" spc="-1" strike="noStrike">
                <a:solidFill>
                  <a:srgbClr val="000000"/>
                </a:solidFill>
                <a:latin typeface="Times New Roman"/>
                <a:cs typeface="Simplified Arabic"/>
              </a:rPr>
              <a:t>آمين</a:t>
            </a:r>
            <a:r>
              <a:rPr b="1" i="1" lang="ar-SA" sz="4000" spc="-1" strike="noStrike">
                <a:solidFill>
                  <a:srgbClr val="000000"/>
                </a:solidFill>
                <a:latin typeface="Times New Roman"/>
              </a:rPr>
              <a:t>.</a:t>
            </a:r>
            <a:r>
              <a:rPr b="1" lang="ar-SA" sz="4000" spc="-1" strike="noStrike">
                <a:solidFill>
                  <a:srgbClr val="ff0000"/>
                </a:solidFill>
                <a:latin typeface="Simplified Arabic"/>
              </a:rPr>
              <a:t>  </a:t>
            </a:r>
            <a:endParaRPr b="0" lang="en-US" sz="40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228600"/>
            <a:ext cx="8763120" cy="674676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النشـيد المثلـث التقديـ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أنك قدوس، أنت يا إلهنا، وإليك نرفع المجد، أيها الآب والا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380880"/>
            <a:ext cx="8915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0" y="0"/>
            <a:ext cx="8763120" cy="6914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قدوس الله، قدوس القوي، قدوس الذي لا يموت ارحمنا </a:t>
            </a:r>
            <a:r>
              <a:rPr b="1" lang="ar-SA" sz="3600" spc="-1" strike="noStrike">
                <a:solidFill>
                  <a:srgbClr val="ff0000"/>
                </a:solidFill>
                <a:latin typeface="Times New Roman"/>
                <a:ea typeface="Simplified Arabic"/>
              </a:rPr>
              <a:t>(ثلاثا)</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Ayios o Theos, Ayios Ishkiros, Ayios Athanatos, eleisson ima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مجد للآب والابن والروح القدس، الآن وكل أوان وإلى دهر الداهرين 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دوس الذي لا يموت ، ارحمنا.</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دوس الله، قدوس القوي، قدوس الذي لا يموت ارحمنا</a:t>
            </a:r>
            <a:r>
              <a:rPr b="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380880"/>
            <a:ext cx="9144000" cy="7695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rtl="1">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قراءة الرسالة وقراءة الإنجيل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صل من رسا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حكمة !  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رسا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ff0000"/>
                </a:solidFill>
                <a:latin typeface="Times New Roman"/>
                <a:cs typeface="Simplified Arabic"/>
              </a:rPr>
              <a:t>ك. </a:t>
            </a:r>
            <a:r>
              <a:rPr b="1" lang="ar-SA" sz="3600" spc="-1" strike="noStrike">
                <a:solidFill>
                  <a:srgbClr val="000000"/>
                </a:solidFill>
                <a:latin typeface="Times New Roman"/>
                <a:cs typeface="Simplified Arabic"/>
              </a:rPr>
              <a:t>السلام لك أيها القاريء   </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وقوف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i="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هللويا ، هللويا ،  هللوي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59" name=""/>
          <p:cNvSpPr/>
          <p:nvPr/>
        </p:nvSpPr>
        <p:spPr>
          <a:xfrm>
            <a:off x="1828800" y="0"/>
            <a:ext cx="7315200" cy="90738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حكمة، لنقف ونسمع الإنجيل المقدّس.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صل شريف من بشارة القديس...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المجد لك ، يا رب المجد ل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Times New Roman"/>
                <a:cs typeface="Simplified Arabic"/>
              </a:rPr>
              <a:t>الإنجيل المقدس</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المجد لك ، يا رب المجد لك.</a:t>
            </a:r>
            <a:endParaRPr b="0" lang="en-US" sz="3600" spc="-1" strike="noStrike">
              <a:solidFill>
                <a:srgbClr val="000000"/>
              </a:solidFill>
              <a:latin typeface="Times New Roman"/>
            </a:endParaRPr>
          </a:p>
          <a:p>
            <a:pPr algn="ct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Times New Roman"/>
                <a:cs typeface="Simplified Arabic"/>
              </a:rPr>
              <a:t>جلوســـاً (العظـــة)</a:t>
            </a:r>
            <a:endParaRPr b="0" lang="en-US" sz="3600" spc="-1" strike="noStrike">
              <a:solidFill>
                <a:srgbClr val="000000"/>
              </a:solidFill>
              <a:latin typeface="Times New Roman"/>
            </a:endParaRPr>
          </a:p>
        </p:txBody>
      </p:sp>
      <p:pic>
        <p:nvPicPr>
          <p:cNvPr id="60" name="273322_ph" descr=""/>
          <p:cNvPicPr/>
          <p:nvPr/>
        </p:nvPicPr>
        <p:blipFill>
          <a:blip r:embed="rId1"/>
          <a:stretch/>
        </p:blipFill>
        <p:spPr>
          <a:xfrm>
            <a:off x="-533520" y="990720"/>
            <a:ext cx="3687840" cy="5867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304920"/>
            <a:ext cx="8763120" cy="6275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Times New Roman"/>
                <a:ea typeface="Simplified Arabic"/>
              </a:rPr>
              <a:t> </a:t>
            </a:r>
            <a:r>
              <a:rPr b="1" i="1" lang="ar-SA" sz="3600" spc="-1" strike="noStrike">
                <a:solidFill>
                  <a:srgbClr val="ff0000"/>
                </a:solidFill>
                <a:latin typeface="Times New Roman"/>
                <a:ea typeface="Times New Roman"/>
              </a:rPr>
              <a:t>2</a:t>
            </a:r>
            <a:r>
              <a:rPr b="1" i="1" lang="ar-SA" sz="3600" spc="-1" strike="noStrike">
                <a:solidFill>
                  <a:srgbClr val="ff0000"/>
                </a:solidFill>
                <a:latin typeface="Times New Roman"/>
                <a:ea typeface="Times New Roman"/>
              </a:rPr>
              <a:t>-           </a:t>
            </a:r>
            <a:r>
              <a:rPr b="1" i="1" lang="ar-SA" sz="3600" spc="-1" strike="noStrike">
                <a:solidFill>
                  <a:srgbClr val="ff0000"/>
                </a:solidFill>
                <a:latin typeface="Times New Roman"/>
                <a:cs typeface="Simplified Arabic"/>
              </a:rPr>
              <a:t>خدمة الذبيح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حتى إذا كنا مصونين بعزّتك كلّ حين نرفع إليك المجد أيها الآب والإ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وقــوفــاً</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
          <p:cNvSpPr/>
          <p:nvPr/>
        </p:nvSpPr>
        <p:spPr>
          <a:xfrm>
            <a:off x="5562720" y="0"/>
            <a:ext cx="3581280" cy="1233468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a:t>
            </a:r>
            <a:r>
              <a:rPr b="1" lang="ar-SA" sz="4000" spc="-1" strike="noStrike">
                <a:solidFill>
                  <a:srgbClr val="ff0000"/>
                </a:solidFill>
                <a:latin typeface="Times New Roman"/>
                <a:ea typeface="Simplified Arabic"/>
              </a:rPr>
              <a:t>	</a:t>
            </a:r>
            <a:r>
              <a:rPr b="1" i="1" lang="ar-SA" sz="4000" spc="-1" strike="noStrike">
                <a:solidFill>
                  <a:srgbClr val="ccecff"/>
                </a:solidFill>
                <a:latin typeface="Times New Roman"/>
                <a:cs typeface="Simplified Arabic"/>
              </a:rPr>
              <a:t>أيها الممثلون الشروبيم سرياً، والمرنمون للثالوث المحي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ccecff"/>
                </a:solidFill>
                <a:latin typeface="Times New Roman"/>
                <a:cs typeface="Simplified Arabic"/>
              </a:rPr>
              <a:t>بالنشيد المثلث التقديس، فلنطرح عنا كل اهتمام دنيوي،</a:t>
            </a:r>
            <a:r>
              <a:rPr b="1" i="1" lang="ar-SA" sz="4000" spc="-1" strike="noStrike">
                <a:solidFill>
                  <a:srgbClr val="ccecff"/>
                </a:solidFill>
                <a:latin typeface="Times New Roman"/>
                <a:ea typeface="Simplified Arabic"/>
              </a:rPr>
              <a:t>	</a:t>
            </a:r>
            <a:r>
              <a:rPr b="1" i="1" lang="ar-SA" sz="4000" spc="-1" strike="noStrike">
                <a:solidFill>
                  <a:srgbClr val="ccecff"/>
                </a:solidFill>
                <a:latin typeface="Times New Roman"/>
                <a:cs typeface="Simplified Arabic"/>
              </a:rPr>
              <a:t>لنستقبل ملك الكل.</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Times New Roman"/>
                <a:ea typeface="Simplified Arabic"/>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Simplified Arabic"/>
              </a:rPr>
              <a:t>.</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63" name="2151970xomuSiowLC_ph" descr=""/>
          <p:cNvPicPr/>
          <p:nvPr/>
        </p:nvPicPr>
        <p:blipFill>
          <a:blip r:embed="rId1"/>
          <a:stretch/>
        </p:blipFill>
        <p:spPr>
          <a:xfrm>
            <a:off x="0" y="0"/>
            <a:ext cx="5715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3962520" y="0"/>
            <a:ext cx="4952880" cy="836028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ك.</a:t>
            </a:r>
            <a:r>
              <a:rPr b="1" lang="ar-SA" sz="4000" spc="-1" strike="noStrike">
                <a:solidFill>
                  <a:srgbClr val="ffcc66"/>
                </a:solidFill>
                <a:latin typeface="Times New Roman"/>
                <a:ea typeface="Simplified Arabic"/>
              </a:rPr>
              <a:t>	</a:t>
            </a:r>
            <a:r>
              <a:rPr b="1" lang="ar-SA" sz="4000" spc="-1" strike="noStrike">
                <a:solidFill>
                  <a:srgbClr val="ffcc66"/>
                </a:solidFill>
                <a:latin typeface="Times New Roman"/>
                <a:cs typeface="Simplified Arabic"/>
              </a:rPr>
              <a:t>يذكر الرب الإله جميعنا في ملكوته كل حين، الآن وكل أوان وإلى دهر الداهري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ea typeface="Simplified Arabic"/>
              </a:rPr>
              <a:t> ش.</a:t>
            </a:r>
            <a:r>
              <a:rPr b="1" lang="ar-SA" sz="4000" spc="-1" strike="noStrike">
                <a:solidFill>
                  <a:srgbClr val="ff0000"/>
                </a:solidFill>
                <a:latin typeface="Times New Roman"/>
                <a:ea typeface="Simplified Arabic"/>
              </a:rPr>
              <a:t>	</a:t>
            </a:r>
            <a:r>
              <a:rPr b="1" i="1" lang="ar-SA" sz="4000" spc="-1" strike="noStrike">
                <a:solidFill>
                  <a:srgbClr val="ffcc66"/>
                </a:solidFill>
                <a:latin typeface="Times New Roman"/>
                <a:cs typeface="Simplified Arabic"/>
              </a:rPr>
              <a:t>آمين. تحف به الطغمات الملائكية على حال غير منظور.</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cc66"/>
                </a:solidFill>
                <a:latin typeface="Times New Roman"/>
                <a:ea typeface="Simplified Arabic"/>
              </a:rPr>
              <a:t>	</a:t>
            </a:r>
            <a:r>
              <a:rPr b="1" i="1" lang="ar-SA" sz="4000" spc="-1" strike="noStrike">
                <a:solidFill>
                  <a:srgbClr val="ffcc66"/>
                </a:solidFill>
                <a:latin typeface="Times New Roman"/>
                <a:cs typeface="Simplified Arabic"/>
              </a:rPr>
              <a:t>هللويا،  هللويا،  هللويا.</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65" name="49438873JQfExr_ph" descr=""/>
          <p:cNvPicPr/>
          <p:nvPr/>
        </p:nvPicPr>
        <p:blipFill>
          <a:blip r:embed="rId1"/>
          <a:stretch/>
        </p:blipFill>
        <p:spPr>
          <a:xfrm>
            <a:off x="0" y="0"/>
            <a:ext cx="4200480" cy="6858000"/>
          </a:xfrm>
          <a:prstGeom prst="rect">
            <a:avLst/>
          </a:prstGeom>
          <a:ln w="0">
            <a:noFill/>
          </a:ln>
        </p:spPr>
      </p:pic>
      <p:sp>
        <p:nvSpPr>
          <p:cNvPr id="66" name=""/>
          <p:cNvSpPr/>
          <p:nvPr/>
        </p:nvSpPr>
        <p:spPr>
          <a:xfrm>
            <a:off x="3809880" y="533520"/>
            <a:ext cx="48769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0"/>
            <a:ext cx="9144000" cy="8939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تقدمة القاربين</a:t>
            </a:r>
            <a:endParaRPr b="0" lang="en-US" sz="3200" spc="-1" strike="noStrike">
              <a:solidFill>
                <a:srgbClr val="000000"/>
              </a:solidFill>
              <a:latin typeface="Times New Roman"/>
            </a:endParaRPr>
          </a:p>
          <a:p>
            <a:pPr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جلوساً</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ك.</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لنكمل طلبتنا إلى الرب.</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lang="ar-SA" sz="3200" spc="-1" strike="noStrike">
                <a:solidFill>
                  <a:srgbClr val="ff0000"/>
                </a:solidFill>
                <a:latin typeface="Times New Roman"/>
                <a:ea typeface="Simplified Arabic"/>
              </a:rPr>
              <a:t>	</a:t>
            </a:r>
            <a:r>
              <a:rPr b="1" i="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ها الإله القدير القدوس وحدك، القابل ذبيحة التسبيح من الذين يدعونك بكل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قلوبهم، تقبل منا أيضاً نحن الخطأة طلبتنا، وقدمها إلى مذبحك المقدس، واجعلنا جديرين بأن نقدم لك قرابين وذبائح روحية، عن خطايانا وجهالات الشعب. وأهلنا لأن نصيب حظوة في عينيك، فتكون ذبيحتنا مرضية لديك، ويستقر روح</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نعمتك الصالح علينا، وعلى هذه القرابين المقدمة، وعلى شعبك كله.</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a:t>
            </a:r>
            <a:r>
              <a:rPr b="1" lang="ar-SA" sz="3200" spc="-1" strike="noStrike">
                <a:solidFill>
                  <a:srgbClr val="ff0000"/>
                </a:solidFill>
                <a:latin typeface="Times New Roman"/>
                <a:cs typeface="Simplified Arabic"/>
              </a:rPr>
              <a:t>ك.</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برأفة ابنك الوحيد، الذي أنت مبارك </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معه ومع روح القدوس الصالح المحيي، الآن وكل أوان وإلى دهر الداهرين.</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ea typeface="Simplified Arabic"/>
              </a:rPr>
              <a:t> ش.</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آ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
          <p:cNvSpPr/>
          <p:nvPr/>
        </p:nvSpPr>
        <p:spPr>
          <a:xfrm>
            <a:off x="3200400" y="0"/>
            <a:ext cx="5943600" cy="6811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المصافحة الأخوية</a:t>
            </a:r>
            <a:endParaRPr b="0" lang="en-US" sz="32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وقــوفــاً</a:t>
            </a:r>
            <a:endParaRPr b="0" lang="en-US" sz="32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جميعكم.</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حب بعضنا بعضا لكي نعترف بنية واحدة.</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بالآب والابن والروح القدس، الثالوث الواحد في                      الجوهر، وغير المنفص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9" name="21303917YvwWhKWccB_ph" descr=""/>
          <p:cNvPicPr/>
          <p:nvPr/>
        </p:nvPicPr>
        <p:blipFill>
          <a:blip r:embed="rId1"/>
          <a:stretch/>
        </p:blipFill>
        <p:spPr>
          <a:xfrm>
            <a:off x="0" y="0"/>
            <a:ext cx="3200400" cy="5486400"/>
          </a:xfrm>
          <a:prstGeom prst="rect">
            <a:avLst/>
          </a:prstGeom>
          <a:ln w="0">
            <a:noFill/>
          </a:ln>
        </p:spPr>
      </p:pic>
      <p:sp>
        <p:nvSpPr>
          <p:cNvPr id="70" name=""/>
          <p:cNvSpPr/>
          <p:nvPr/>
        </p:nvSpPr>
        <p:spPr>
          <a:xfrm>
            <a:off x="0" y="5486400"/>
            <a:ext cx="914400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Patera, Ion, Ke Ayion Pnevma, Triadha omooussion ke akhoristo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8915400" cy="8858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قانون الإيما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lang="ar-SA" sz="3200" spc="-1" strike="noStrike">
                <a:solidFill>
                  <a:srgbClr val="ff0000"/>
                </a:solidFill>
                <a:latin typeface="Times New Roman"/>
                <a:cs typeface="Simplified Arabic"/>
              </a:rPr>
              <a:t>ك.  </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Times New Roman"/>
              </a:rPr>
              <a:t>بحكمة فلنصغ</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i="1" lang="ar-SA" sz="3200" spc="-1" strike="noStrike">
                <a:solidFill>
                  <a:srgbClr val="000000"/>
                </a:solidFill>
                <a:latin typeface="Times New Roman"/>
                <a:ea typeface="Simplified Arabic"/>
              </a:rPr>
              <a:t> </a:t>
            </a:r>
            <a:r>
              <a:rPr b="1" i="1" lang="ar-SA" sz="2800" spc="-1" strike="noStrike">
                <a:solidFill>
                  <a:srgbClr val="000000"/>
                </a:solidFill>
                <a:latin typeface="Times New Roman"/>
                <a:ea typeface="Simplified Arabic"/>
              </a:rPr>
              <a:t>	</a:t>
            </a:r>
            <a:r>
              <a:rPr b="1" i="1" lang="ar-SA" sz="2800" spc="-1" strike="noStrike">
                <a:solidFill>
                  <a:srgbClr val="000000"/>
                </a:solidFill>
                <a:latin typeface="Times New Roman"/>
                <a:cs typeface="Simplified Arabic"/>
              </a:rPr>
              <a:t>نؤمن بإله واحد، آب ضابط الكل، خالق السماء والأرض، كل ما يرى وما لا يرى. وبرب واحد يسوع المسيح ، ابن الله الوحيد، المولود من الآب قبل كل الدهور، نور من نور ، إله حق من إله حق، مولود غير مخلوق، مساوٍ لللآب  في الجوهر، الذي به كان كل شيء، الذي من أجلنا نحن البشر، ومن أجل خلاصنا، نزل من السماء، وتجسد من الروح القدس ومن مريم العذراء وتأنس، وصلب عنا على عهد بيلاطس البنطي. وتألم وقبر. وقام في اليوم الثالث كما في الكتب، وصعد إلى السماء، وجلس عن يمين الآب. وأيضا يأتي بمجد عظيم ليدين الأحياء والأموات، الذي لا فناء لمكله. وبالروح القدس، الرب المحيي، المنبثق من الآب والابن، الذي هو مع الآب والابن، يسجد له ويمجد، الناطق بالأنبياء وبكنيسة واحدة، جامعة، مقدسة، رسولية. ونعترف بمعمودية واحدة لمغفرة الخطايا. ونترجى قيامة الموتى والحياة في الدهر الآتي.   آمــيــن</a:t>
            </a:r>
            <a:r>
              <a:rPr b="1" i="1" lang="ar-SA" sz="2800" spc="-1" strike="noStrike">
                <a:solidFill>
                  <a:srgbClr val="000000"/>
                </a:solidFill>
                <a:latin typeface="Times New Roman"/>
                <a:ea typeface="Times New Roman"/>
              </a:rPr>
              <a:t>.</a:t>
            </a:r>
            <a:r>
              <a:rPr b="0"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8915400" cy="7874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a:t>
            </a:r>
            <a:r>
              <a:rPr b="1" lang="ar-SA" sz="4000" spc="-1" strike="noStrike">
                <a:solidFill>
                  <a:srgbClr val="ff0000"/>
                </a:solidFill>
                <a:latin typeface="Times New Roman"/>
                <a:cs typeface="Simplified Arabic"/>
              </a:rPr>
              <a:t>جلوس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ك. </a:t>
            </a:r>
            <a:r>
              <a:rPr b="1" lang="ar-SA" sz="4000" spc="-1" strike="noStrike">
                <a:solidFill>
                  <a:srgbClr val="ff0000"/>
                </a:solidFill>
                <a:latin typeface="Times New Roman"/>
                <a:ea typeface="Simplified Arabic"/>
              </a:rPr>
              <a:t>	</a:t>
            </a:r>
            <a:r>
              <a:rPr b="1" lang="ar-SA" sz="4000" spc="-1" strike="noStrike">
                <a:solidFill>
                  <a:srgbClr val="000000"/>
                </a:solidFill>
                <a:latin typeface="Times New Roman"/>
                <a:cs typeface="Simplified Arabic"/>
              </a:rPr>
              <a:t>بسلام، إلى الرب نطل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a:t>
            </a:r>
            <a:r>
              <a:rPr b="1" lang="ar-SA" sz="4000" spc="-1" strike="noStrike">
                <a:solidFill>
                  <a:srgbClr val="000000"/>
                </a:solidFill>
                <a:latin typeface="Times New Roman"/>
                <a:ea typeface="Simplified Arabic"/>
              </a:rPr>
              <a:t> </a:t>
            </a:r>
            <a:r>
              <a:rPr b="1" lang="ar-SA" sz="4000" spc="-1" strike="noStrike">
                <a:solidFill>
                  <a:srgbClr val="000000"/>
                </a:solidFill>
                <a:latin typeface="Times New Roman"/>
                <a:ea typeface="Simplified Arabic"/>
              </a:rPr>
              <a:t>	</a:t>
            </a:r>
            <a:r>
              <a:rPr b="1" i="1" lang="ar-SA" sz="4000" spc="-1" strike="noStrike">
                <a:solidFill>
                  <a:srgbClr val="000000"/>
                </a:solidFill>
                <a:latin typeface="Times New Roman"/>
                <a:cs typeface="Simplified Arabic"/>
              </a:rPr>
              <a:t>يا رب ارحم</a:t>
            </a:r>
            <a:endParaRPr b="0" lang="en-US" sz="40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ك.</a:t>
            </a:r>
            <a:r>
              <a:rPr b="1" lang="ar-SA" sz="4000" spc="-1" strike="noStrike">
                <a:solidFill>
                  <a:srgbClr val="000000"/>
                </a:solidFill>
                <a:latin typeface="Times New Roman"/>
                <a:ea typeface="Simplified Arabic"/>
              </a:rPr>
              <a:t> </a:t>
            </a:r>
            <a:r>
              <a:rPr b="1" lang="ar-SA" sz="40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أجل السلام العلوي وخلاص نفوسنا، إلى الرب نطلب</a:t>
            </a:r>
            <a:endParaRPr b="0" lang="en-US" sz="36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 </a:t>
            </a:r>
            <a:r>
              <a:rPr b="1" lang="ar-SA" sz="4000" spc="-1" strike="noStrike">
                <a:solidFill>
                  <a:srgbClr val="ff0000"/>
                </a:solidFill>
                <a:latin typeface="Times New Roman"/>
                <a:ea typeface="Simplified Arabic"/>
              </a:rPr>
              <a:t>	</a:t>
            </a:r>
            <a:r>
              <a:rPr b="1" i="1" lang="ar-SA" sz="4000" spc="-1" strike="noStrike">
                <a:solidFill>
                  <a:srgbClr val="000000"/>
                </a:solidFill>
                <a:latin typeface="Times New Roman"/>
                <a:cs typeface="Simplified Arabic"/>
              </a:rPr>
              <a:t>يا رب ارحم</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ك. </a:t>
            </a:r>
            <a:r>
              <a:rPr b="1" lang="ar-SA" sz="4000" spc="-1" strike="noStrike">
                <a:solidFill>
                  <a:srgbClr val="ff0000"/>
                </a:solidFill>
                <a:latin typeface="Times New Roman"/>
                <a:ea typeface="Simplified Arabic"/>
              </a:rPr>
              <a:t>	</a:t>
            </a:r>
            <a:r>
              <a:rPr b="1" lang="ar-SA" sz="4000" spc="-1" strike="noStrike">
                <a:solidFill>
                  <a:srgbClr val="000000"/>
                </a:solidFill>
                <a:latin typeface="Times New Roman"/>
                <a:cs typeface="Times New Roman"/>
              </a:rPr>
              <a:t>لأجل سلام العالم أجمع وثبات كنائس الله المقدسة واتحاد الجميع، إلى الرب نطل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 </a:t>
            </a:r>
            <a:r>
              <a:rPr b="1" lang="ar-SA" sz="4000" spc="-1" strike="noStrike">
                <a:solidFill>
                  <a:srgbClr val="ff0000"/>
                </a:solidFill>
                <a:latin typeface="Times New Roman"/>
                <a:ea typeface="Simplified Arabic"/>
              </a:rPr>
              <a:t>	</a:t>
            </a:r>
            <a:r>
              <a:rPr b="1" i="1" lang="ar-SA" sz="4000" spc="-1" strike="noStrike">
                <a:solidFill>
                  <a:srgbClr val="000000"/>
                </a:solidFill>
                <a:latin typeface="Times New Roman"/>
                <a:cs typeface="Simplified Arabic"/>
              </a:rPr>
              <a:t>يا رب ارحم</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81298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ـذبـيـحــــ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قف حسنا. ولنقف بتهيّب. فلنصغ لنقدم بسلام القربان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رحمة سلام، ذبيحة نسبيح.</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Eleon irinis, thissian enesseos</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نعمة ربنا يسوع المسيح، ومحبة الله الآب +  وشركة الروح القدس، فلتكن مع 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Ke meta tou pnevmatos sou</a:t>
            </a:r>
            <a:endParaRPr b="0" lang="en-US" sz="3600" spc="-1" strike="noStrike">
              <a:solidFill>
                <a:srgbClr val="000000"/>
              </a:solidFill>
              <a:latin typeface="Times New Roman"/>
            </a:endParaRPr>
          </a:p>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304920"/>
            <a:ext cx="8763120" cy="48150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رفع قلوبنا إلى العلاء</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ها هي عند الرب</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Akhomen pros ton Gruirio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شكرن ال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اجب وحق</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Asion ke dhikeon</a:t>
            </a:r>
            <a:r>
              <a:rPr b="0" lang="ar-SA" sz="2400" spc="-1" strike="noStrike">
                <a:solidFill>
                  <a:srgbClr val="000000"/>
                </a:solidFill>
                <a:latin typeface="Times New Roman"/>
              </a:rPr>
              <a:t> </a:t>
            </a:r>
            <a:r>
              <a:rPr b="0" lang="en-US" sz="2400" spc="-1" strike="noStrike">
                <a:solidFill>
                  <a:srgbClr val="000000"/>
                </a:solidFill>
                <a:latin typeface="Times New Roman"/>
              </a:rPr>
              <a:t> </a:t>
            </a:r>
            <a:r>
              <a:rPr b="1" i="1" lang="en-US" sz="3600" spc="-1" strike="noStrike">
                <a:solidFill>
                  <a:srgbClr val="000000"/>
                </a:solidFill>
                <a:latin typeface="Times New Roman"/>
              </a:rPr>
              <a:t>Est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9144000" cy="941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Times New Roman"/>
                <a:cs typeface="Simplified Arabic"/>
              </a:rPr>
              <a:t>ك.</a:t>
            </a:r>
            <a:r>
              <a:rPr b="1" lang="en-US"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جب وحق أن نسبحك ونباركك، ونشيد لك ونشكرك، ونسجد لك في كل مواضع سيادتك. فإنك أنت الاله الذي لا يفي به وصف، ولا يحده عقل، ولا يرى ولا يدرك، الدائم الوجود، والكائن هو هو، أنت وابنك الوحيد وروحك القدوس. أنت أخرجتنا من العدم إلى الوجود، وبعد أن سقطنا عدت فأقمتنا. وما زلت تصنع كل شيء حتى أصعدتنا إلى السماء، وأنعمت علينا بملكك الآتي. فمن أجل هذه كلها نشكرك، ونشكر ابنك الوحيد وروحك القدوس. كما نشكر لك كل ما نلنا من احساناتك، المعروفة والمجهولة، الظاهرة والخفية. ونشكر لك أيضا هذه الخدمة، التي ارتضيت أن تقبلها من أيدينا، مع أن ألوفاً من رؤساء الملائكة وربوات من الملائكة، ماثلون لديك، الشروبيم والسرافيم، ذوي الأجنحة الستة والعيون الكثيرة، محلقين وطائرين</a:t>
            </a:r>
            <a:r>
              <a:rPr b="1" lang="ar-SA" sz="1400" spc="-1" strike="noStrike">
                <a:solidFill>
                  <a:srgbClr val="000000"/>
                </a:solidFill>
                <a:latin typeface="Times New Roman"/>
                <a:ea typeface="Simplified Arabic"/>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9144000" cy="8106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رنمين بنشيد الظفر، هاتفين وصارخين وقائل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قدوس، قدوس، قدوس، رب الصبؤوت. السماء والأرض مملوئتان من مجدك.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هوشعنا في الأعالي. مبارك الآتي باسم الرب. هو شعنا في الأعالي.</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Ayios, ayios, ayios, Kirios Savaoth;</a:t>
            </a:r>
            <a:r>
              <a:rPr b="1" i="1" lang="ar-SA"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 pliris o ouranos ke I yi ti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Dhoxis sou. Ossanna en dis ipsistis. Evloyimenos o erkhomenos en</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Onomati kiriou. Ossana o en dis ipsistis.</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304920"/>
            <a:ext cx="8915400" cy="9158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مع هذه القوات المغبوطة، نهتف نحن أيضا أيها السيد المحب البشر ونقول: قدوس أنت وكامل القداسة، أنت وابنك الوحيد وروحك القدوس. قدوس أنت وكامل القداسة، وعظيم جلال مجدك. لقد أحببت عالمك ، حتى أنك بذلت ابنك الوحيد، لكي لا يهلك من يؤمن به، بك تكون له الحياة الأبدية. فهذا أتى وأكمل كل ما دبرته عنايتك بشأننا. وفي الليلة التي أسلم فيها، أو بالحرى أسلم ذاته لأجل حياة العالم، أخذ خبز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بيديه المقدستين الطاهرتين اللتين لا عيب فيهما ، فشكر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وبارك وقدس وكسر، وأعطى تلاميذه القديسين قائ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77" name=""/>
          <p:cNvSpPr/>
          <p:nvPr/>
        </p:nvSpPr>
        <p:spPr>
          <a:xfrm>
            <a:off x="5867280" y="450720"/>
            <a:ext cx="3276720" cy="78210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قـديــــ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ffffff"/>
                </a:solidFill>
                <a:latin typeface="Times New Roman"/>
                <a:cs typeface="Simplified Arabic"/>
              </a:rPr>
              <a:t>خذوا فكلوا، هذا هو جسدي ، الذي يكسر لأجلكم، لمغفرة الخطاي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ffffff"/>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ffffff"/>
                </a:solidFill>
                <a:latin typeface="Times New Roman"/>
                <a:cs typeface="Simplified Arabic"/>
              </a:rPr>
              <a:t>وكذلك الكأس بعد العشاء، قائ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8" name="25421475MWaVWSSKTq_ph" descr=""/>
          <p:cNvPicPr/>
          <p:nvPr/>
        </p:nvPicPr>
        <p:blipFill>
          <a:blip r:embed="rId1"/>
          <a:stretch/>
        </p:blipFill>
        <p:spPr>
          <a:xfrm>
            <a:off x="0" y="0"/>
            <a:ext cx="586728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6521646nDdWDwXPxk_ph" descr=""/>
          <p:cNvPicPr/>
          <p:nvPr/>
        </p:nvPicPr>
        <p:blipFill>
          <a:blip r:embed="rId1"/>
          <a:stretch/>
        </p:blipFill>
        <p:spPr>
          <a:xfrm>
            <a:off x="0" y="0"/>
            <a:ext cx="5715000" cy="6858000"/>
          </a:xfrm>
          <a:prstGeom prst="rect">
            <a:avLst/>
          </a:prstGeom>
          <a:ln w="0">
            <a:noFill/>
          </a:ln>
        </p:spPr>
      </p:pic>
      <p:sp>
        <p:nvSpPr>
          <p:cNvPr id="80" name=""/>
          <p:cNvSpPr/>
          <p:nvPr/>
        </p:nvSpPr>
        <p:spPr>
          <a:xfrm>
            <a:off x="5943600" y="838080"/>
            <a:ext cx="2971800" cy="6414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9966"/>
                </a:solidFill>
                <a:latin typeface="Times New Roman"/>
                <a:ea typeface="Simplified Arabic"/>
              </a:rPr>
              <a:t>	</a:t>
            </a:r>
            <a:r>
              <a:rPr b="1" lang="ar-SA" sz="3600" spc="-1" strike="noStrike">
                <a:solidFill>
                  <a:srgbClr val="ff9966"/>
                </a:solidFill>
                <a:latin typeface="Times New Roman"/>
                <a:cs typeface="Simplified Arabic"/>
              </a:rPr>
              <a:t>اشربوا من هذا كلكم، هذا هو دمي للعهد الجديد، الذي يهراق عنكم وعن كثيرين لمغفرة الخطايا</a:t>
            </a:r>
            <a:r>
              <a:rPr b="1" lang="ar-SA" sz="3600" spc="-1" strike="noStrike">
                <a:solidFill>
                  <a:srgbClr val="000000"/>
                </a:solidFill>
                <a:latin typeface="Times New Roman"/>
                <a:ea typeface="Simplified Arabic"/>
              </a:rPr>
              <a:t>.</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ff9966"/>
                </a:solidFill>
                <a:latin typeface="Times New Roman"/>
                <a:cs typeface="Simplified Arabic"/>
              </a:rPr>
              <a:t>آمين</a:t>
            </a:r>
            <a:r>
              <a:rPr b="1" i="1" lang="ar-SA" sz="3600" spc="-1" strike="noStrike">
                <a:solidFill>
                  <a:srgbClr val="ff9966"/>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304920"/>
            <a:ext cx="8915400" cy="7295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ـقــدمــ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ا لك، مما هو لك، نقربه لك عن كل شيء، ومن أجل كل شيء.</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إياك نسبح. إياك نبارك. لك نشكر، يا رب، وإليك نطلب، يا إلهنا.</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Se Imnoumen, se evloghoumen, si evkharistoumen,</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kyrie, ke dheometha sou, o Theors imo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30492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228600"/>
            <a:ext cx="9144000" cy="7844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سـتدعـاء الـروح القـ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نقرب لك أيضا هذه العبادة الروحية غير الدموية، ونبتهل ونطلب ونتضرع. فأرسل روحك علينا، وعلى هذه القرابين الحاضر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اجعل هذا الخبز جسد مسيحك الك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ما في هذه الكأس دم مسيحك الك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80880" y="304920"/>
            <a:ext cx="8458200" cy="67467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حوّلاً إياهما بروحك القدو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 ، آمين، أ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خصوصاً سيدتنا الكاملة القداسة الطاهرة، الفائقة البركات المجيدة ، والدة الإله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دائمة البتولية م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جلوســـ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8915400" cy="8560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هذا البيت المقدس والداخلين إليه بإيمان وورع ومخافة الله،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رئيس كهنتنا ... الموقر وكهنته المكرمين والشمامسة الخدام بالمسيح</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وجميع الاكليروس والشعب، إلى الرب نطلب</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يا رب ارحم</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حكامنا ومساعديهم وجنودهم ولأجل مؤازرتهم في كل عمل صالح،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يا رب ارحم</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8839080" cy="85215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إنه واجب حقا أن نغبطك ، يا والدة الإله، الدائمة الغبطة، المنزهة عن كل عيب، وأم إلهنا. يا من هي أكرم من الشروبيم. وأمجد بلا قياس من السرافيم، يا من ولدت الله الكلمة ولبثت بتولا، إنك حقاً والدة الإله، إياك نعظم.</a:t>
            </a:r>
            <a:endParaRPr b="0" lang="en-US" sz="36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Asion estin os alithos makarizin se tin theortokon, tin aimakariston ke panamomiton, ke miter tou Theou imon. Tin dimioteran ton kherouvim, ke endhoxoteran assingritis ton seraphim. Tin adhiafthoros, Theon loghon tekoussan tin ondos Theotokon se meghalinomen</a:t>
            </a:r>
            <a:r>
              <a:rPr b="1" i="1" lang="en-US"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28600" y="0"/>
            <a:ext cx="9144000" cy="111510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أذكر يا رب الحبر الروماني البابا.. الطوباوي. وبطريركنا.. المغبوط. ورئيس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كهنتنا.. الموقر وأنعم على كنائسك المقدسة أن يكونوا في سلام، أصحاء، مكرمين معافين، مديدي الأيام، مفصلين بأحكام  </a:t>
            </a:r>
            <a:r>
              <a:rPr b="1" lang="ar-SA" sz="3400" spc="-1" strike="noStrike">
                <a:solidFill>
                  <a:srgbClr val="ff0000"/>
                </a:solidFill>
                <a:latin typeface="Times New Roman"/>
                <a:ea typeface="Simplified Arabic"/>
              </a:rPr>
              <a:t>..</a:t>
            </a:r>
            <a:r>
              <a:rPr b="1" lang="ar-SA" sz="3400" spc="-1" strike="noStrike">
                <a:solidFill>
                  <a:srgbClr val="000000"/>
                </a:solidFill>
                <a:latin typeface="Times New Roman"/>
                <a:ea typeface="Simplified Arabic"/>
              </a:rPr>
              <a:t>  حقك.</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ذكر يا رب هذا الشعب الحاضر والخاطرين ببال كل واحد منا، وجميعهم وجميعهن.</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أعطنا أن نمجد ونسبح بفم واحد وقلب واحد، اسمك الجدير بكل كرامة والعظيم الجلال، أيها الآب  </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لابن والروح القدس، الآن وكل أوان وإلى دهر الداهرين .</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400" spc="-1" strike="noStrike">
                <a:solidFill>
                  <a:srgbClr val="000000"/>
                </a:solidFill>
                <a:latin typeface="Times New Roman"/>
                <a:cs typeface="Simplified Arabic"/>
              </a:rPr>
              <a:t>آمين.</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Times New Roman"/>
                <a:ea typeface="Simplified Arabic"/>
              </a:rPr>
              <a:t> ك.</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لتكن مراحم إلهنا العظيم ومخلصنا يسوع المسيح </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مع جميعكم.</a:t>
            </a:r>
            <a:endParaRPr b="0" lang="en-US" sz="34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28600" y="0"/>
            <a:ext cx="8458200" cy="7295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هـيـئـة للمنـاول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يكون نهارنا كله كاملاً مقدساً سلامياً وبل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خطيئة، 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لاك سلام مرشداً أمينا، حارساً نفوسنا وأجسادن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مسامحة بخطايانا وغفران ذنوبنا، 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r>
              <a:rPr b="1" i="1" lang="ar-SA" sz="3600" spc="-1" strike="noStrike">
                <a:solidFill>
                  <a:srgbClr val="000000"/>
                </a:solidFill>
                <a:latin typeface="Times New Roman"/>
                <a:ea typeface="Times New Roman"/>
              </a:rPr>
              <a:t>.</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304920"/>
            <a:ext cx="8839080" cy="6967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خيرات الموافقة لنفوسنا والسلام للعالم، الرب</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سأل.</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نقضي الزمن الباقي من حياتنا بسلام وتوبة،</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رب نسأل.</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تكون أواخر حياتنا مسيحية سلامية، بلا وجع ول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خزي، وأن نؤدي جواباً</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حسناً لدى منبر المسيح</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الرهيب، الرب نسأل.</a:t>
            </a:r>
            <a:endParaRPr b="0" lang="en-US" sz="3600" spc="-1" strike="noStrike">
              <a:solidFill>
                <a:srgbClr val="000000"/>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r>
              <a:rPr b="1" i="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304920"/>
            <a:ext cx="8915400" cy="6175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سأل الوحدة في الإيمان، وشركة الروح لاقدس،</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لنودع المسيح الإله ذواتن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بعضنا بعض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حياتنا كله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لك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أهلنا، أيها السيد، لأن نجسر بدالة وبلا دينونة على</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أن ندعوك أباً، أنت الإله السماوي، ونقو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وقـوفــ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صلاة الربي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4648320" y="0"/>
            <a:ext cx="4190760" cy="9992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9966"/>
                </a:solidFill>
                <a:latin typeface="Times New Roman"/>
                <a:ea typeface="Simplified Arabic"/>
              </a:rPr>
              <a:t>	</a:t>
            </a:r>
            <a:r>
              <a:rPr b="1" i="1" lang="ar-SA" sz="3600" spc="-1" strike="noStrike">
                <a:solidFill>
                  <a:srgbClr val="ff9933"/>
                </a:solidFill>
                <a:latin typeface="Times New Roman"/>
                <a:cs typeface="Simplified Arabic"/>
              </a:rPr>
              <a:t>أبانا الذي في السماوات. ليتقدس اسمك. ليأت ملكوتك. لتكن مشيئتك كما في السماء كذلك على الأرض. أعطنا خبزنا كفاف يومنا. واغفر لنا خطايانا. كما نغفر نحن لمن أساء إلينا. ولا تدخلنا في التجارب.لكن نجنا من الشرير.</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1" name="31708723cFLzrRMjjT_ph" descr=""/>
          <p:cNvPicPr/>
          <p:nvPr/>
        </p:nvPicPr>
        <p:blipFill>
          <a:blip r:embed="rId1"/>
          <a:stretch/>
        </p:blipFill>
        <p:spPr>
          <a:xfrm>
            <a:off x="0" y="0"/>
            <a:ext cx="47242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0"/>
            <a:ext cx="8915400" cy="7647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أن لك الملك والقدرة والمجد، أيها الآب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الاب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الروح القدس ، الآن وكل أوان وإلى دهر الداهرين.</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آمين.</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لجميعكم.</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حنوا رؤسكم للرب.</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لك يا رب.</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بنعمة ابنك الوحيد ورأفته ومحبته للبشر، الذي أنت</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مبارك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معه، ومع روحك القدوس الصالح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المحيي، الآن وكل أون وإلى دهر الداهرين.</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r>
              <a:rPr b="1" i="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304920"/>
            <a:ext cx="8839080" cy="50778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صـلاة المـشارك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لنصغ، الأقداس للقديس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قدوس واحد، رب واحد، يسوع المسيح، لمجد الله</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الآب. آمين.</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Is Ayios, Is Kyrios, Iissous khristos, is dhoxan Theou Patros. Ame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8638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صلاوات استعدادية للتناول</a:t>
            </a:r>
            <a:endParaRPr b="0" lang="en-US" sz="3200" spc="-1" strike="noStrike">
              <a:solidFill>
                <a:srgbClr val="000000"/>
              </a:solidFill>
              <a:latin typeface="Times New Roman"/>
            </a:endParaRPr>
          </a:p>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أنا أومن يا رب وأعترف، أنك أنت حقاً المسيح ابن الله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الحي، الذي أتى إلى العالم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ليخلص الخطأة، الذين أولهم أنا.</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وأومن أيضاً أن هذا هو جسدك الطاهر، وهذا هو دمك</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الكريم. فأطلب إذن إليك أن ارحمني وتجاوز عما زللت به،</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عمداً أو سهواً، القول أو بالفعل، عن معرفة أو عن جهل.</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وأهلني لأن أتناول بلا دينونة أسرارك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الطاهرة، لغفران</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الخطايا وللحياة الأبدية. آم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إقبلني اليوم شريكاً في عشائك السري، يا ابن الله. فاني لا</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أقول سرك لأعدائك، ولا أقبّلك مثل يهوذا. بل كاللص أعترف</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لك: أذكرني يا رب في ملكوتك.</a:t>
            </a:r>
            <a:endParaRPr b="0" lang="en-US" sz="32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لا يكن لي تناول أسرارك المقدسة، يا رب للدينونة أو</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للقضاء، بل لشفاء النفس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والجسد</a:t>
            </a:r>
            <a:r>
              <a:rPr b="1" i="1" lang="ar-SA" sz="32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0"/>
            <a:ext cx="9372600" cy="84031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هذه البلدة وكل مدينة وقرية، والمؤمنين الساكنين فيها، إلى الرب نطلب</a:t>
            </a:r>
            <a:endParaRPr b="0" lang="en-US" sz="3600" spc="-1" strike="noStrike">
              <a:solidFill>
                <a:srgbClr val="000000"/>
              </a:solidFill>
              <a:latin typeface="Times New Roman"/>
            </a:endParaRPr>
          </a:p>
          <a:p>
            <a:pPr algn="r" rtl="1">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المسافرين في البحر والبر والجو، والمرضى والمتعبين والمسبيين، إلى الرب نطلب</a:t>
            </a:r>
            <a:endParaRPr b="0" lang="en-US" sz="3600" spc="-1" strike="noStrike">
              <a:solidFill>
                <a:srgbClr val="000000"/>
              </a:solidFill>
              <a:latin typeface="Times New Roman"/>
            </a:endParaRPr>
          </a:p>
          <a:p>
            <a:pPr algn="r" rtl="1">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Times New Roman"/>
              </a:rPr>
              <a:t>لأجل نجاتنا من كل ضيق وغضب وخطر وشدة، إلى الرب نطل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عضدنا وخلصنا وارحمنا واحفظنا، يا الله بنعمتك</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100155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ذكر سيدتنا الكاملة القداسة، الطاهرة، الفائقة البركات المجيدة، والدة الإله الدائمة البتولية مريم، وجميع القديسين، ولنودع المسيح الإله ذواتنا وبعضنا بعضا وحياتنا كله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لك يا ر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يها الرب إلهنا، الذي تمثل عزته، ولا يدرك مجده، ولا تقاس رحمته، ولا يفي وصف بمحبته للبشر، أنت، أيها السيد، إطلع، بتحننك، علينا وعلى هذا البيت المقدس، واجعل مراحمك ورأفتك غزيرة علينا وعلى المصلين معنا</a:t>
            </a:r>
            <a:r>
              <a:rPr b="1" lang="ar-SA" sz="3600" spc="-1" strike="noStrike">
                <a:solidFill>
                  <a:srgbClr val="000000"/>
                </a:solidFill>
                <a:latin typeface="Times New Roman"/>
                <a:ea typeface="Times New Roman"/>
              </a:rPr>
              <a:t>.</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أن</a:t>
            </a:r>
            <a:r>
              <a:rPr b="1" lang="ar-SA" sz="3600" spc="-1" strike="noStrike">
                <a:solidFill>
                  <a:srgbClr val="000000"/>
                </a:solidFill>
                <a:latin typeface="Times New Roman"/>
                <a:cs typeface="Simplified Arabic"/>
              </a:rPr>
              <a:t>ه لك ينبغي كل مجد وإكرام وسجود، أيها الآب</a:t>
            </a:r>
            <a:r>
              <a:rPr b="1" lang="ar-SA" sz="3600" spc="-1" strike="noStrike">
                <a:solidFill>
                  <a:srgbClr val="ff0000"/>
                </a:solidFill>
                <a:latin typeface="Times New Roman"/>
                <a:ea typeface="Simplified Arabic"/>
              </a:rPr>
              <a:t> + </a:t>
            </a:r>
            <a:r>
              <a:rPr b="1" lang="ar-SA" sz="3600" spc="-1" strike="noStrike">
                <a:solidFill>
                  <a:srgbClr val="000000"/>
                </a:solidFill>
                <a:latin typeface="Times New Roman"/>
                <a:cs typeface="Simplified Arabic"/>
              </a:rPr>
              <a:t>والا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33970022KxIDYC_ph" descr=""/>
          <p:cNvPicPr/>
          <p:nvPr/>
        </p:nvPicPr>
        <p:blipFill>
          <a:blip r:embed="rId2"/>
          <a:stretch/>
        </p:blipFill>
        <p:spPr>
          <a:xfrm>
            <a:off x="-46080" y="0"/>
            <a:ext cx="4541760" cy="6858000"/>
          </a:xfrm>
          <a:prstGeom prst="rect">
            <a:avLst/>
          </a:prstGeom>
          <a:ln w="0">
            <a:noFill/>
          </a:ln>
        </p:spPr>
      </p:pic>
      <p:sp>
        <p:nvSpPr>
          <p:cNvPr id="47" name=""/>
          <p:cNvSpPr/>
          <p:nvPr/>
        </p:nvSpPr>
        <p:spPr>
          <a:xfrm>
            <a:off x="4038480" y="304920"/>
            <a:ext cx="5105520" cy="71413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cs typeface="Simplified Arabic"/>
              </a:rPr>
              <a:t>ش. </a:t>
            </a:r>
            <a:r>
              <a:rPr b="1" lang="ar-SA" sz="4000" spc="-1" strike="noStrike">
                <a:solidFill>
                  <a:srgbClr val="ffff00"/>
                </a:solidFill>
                <a:latin typeface="Times New Roman"/>
                <a:ea typeface="Simplified Arabic"/>
              </a:rPr>
              <a:t>	</a:t>
            </a:r>
            <a:r>
              <a:rPr b="1" i="1" lang="ar-SA" sz="4000" spc="-1" strike="noStrike">
                <a:solidFill>
                  <a:srgbClr val="ffff00"/>
                </a:solidFill>
                <a:latin typeface="Times New Roman"/>
                <a:cs typeface="Simplified Arabic"/>
              </a:rPr>
              <a:t>بشفاعة والدة الإله، يا مخلص خلصنا (مرتين)</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Simplified Arabic"/>
              </a:rPr>
              <a:t>Tes prezvies tis Theotokou, Soter, sosson imas.</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00"/>
                </a:solidFill>
                <a:latin typeface="Times New Roman"/>
                <a:cs typeface="Simplified Arabic"/>
              </a:rPr>
              <a:t>المجد للآب والابن والروح القدس.</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00"/>
                </a:solidFill>
                <a:latin typeface="Times New Roman"/>
                <a:cs typeface="Simplified Arabic"/>
              </a:rPr>
              <a:t>الآن وكل أوان وإلى دهر الداهرين. </a:t>
            </a:r>
            <a:r>
              <a:rPr b="1" i="1" lang="ar-SA" sz="4000" spc="-1" strike="noStrike">
                <a:solidFill>
                  <a:srgbClr val="ffff00"/>
                </a:solidFill>
                <a:latin typeface="Times New Roman"/>
                <a:cs typeface="Times New Roman"/>
              </a:rPr>
              <a:t>آمين</a:t>
            </a:r>
            <a:r>
              <a:rPr b="0" lang="ar-SA" sz="4000" spc="-1" strike="noStrike">
                <a:solidFill>
                  <a:srgbClr val="ffff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8" name="27464458nCLHzxaeRl_ph" descr=""/>
          <p:cNvPicPr/>
          <p:nvPr/>
        </p:nvPicPr>
        <p:blipFill>
          <a:blip r:embed="rId1"/>
          <a:stretch/>
        </p:blipFill>
        <p:spPr>
          <a:xfrm>
            <a:off x="0" y="0"/>
            <a:ext cx="4572000" cy="6858000"/>
          </a:xfrm>
          <a:prstGeom prst="rect">
            <a:avLst/>
          </a:prstGeom>
          <a:ln w="0">
            <a:noFill/>
          </a:ln>
        </p:spPr>
      </p:pic>
      <p:sp>
        <p:nvSpPr>
          <p:cNvPr id="49" name=""/>
          <p:cNvSpPr/>
          <p:nvPr/>
        </p:nvSpPr>
        <p:spPr>
          <a:xfrm>
            <a:off x="4495680" y="0"/>
            <a:ext cx="4648320" cy="10455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كلمة الله، الابن الوحيد، الذي لا يموت. لقد رضيت من أجل خلاصنا، أن تتجسد من والدة الإله القديسة مريم الدائمة البتولية. فتأنست بغير استحالة. وصلبت أيها المسيح الإله، وبالموت وطئت الموت. أنت أحد الثالوث القدوس الممجد مع الآب والروح القدس. خلصنا</a:t>
            </a:r>
            <a:r>
              <a:rPr b="0" lang="ar-SA"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4572000" y="0"/>
            <a:ext cx="434340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4800600" y="304920"/>
            <a:ext cx="4343400" cy="878508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التطواف بالإنجيل المقدس</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cc66"/>
                </a:solidFill>
                <a:latin typeface="Times New Roman"/>
                <a:ea typeface="Times New Roman"/>
              </a:rPr>
              <a:t> </a:t>
            </a:r>
            <a:r>
              <a:rPr b="1" lang="ar-SA" sz="3600" spc="-1" strike="noStrike">
                <a:solidFill>
                  <a:srgbClr val="ffcc66"/>
                </a:solidFill>
                <a:latin typeface="Times New Roman"/>
                <a:cs typeface="Simplified Arabic"/>
              </a:rPr>
              <a:t>الحكمة. فلنقف. هلموا نسجد ونركع للمسيح.</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cs typeface="Simplified Arabic"/>
              </a:rPr>
              <a:t>خلصنا يا ابن الله، يا من قام من بين الأموات، نحن المرنمين لك، هللويا.</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ff0000"/>
                </a:solidFill>
                <a:latin typeface="Times New Roman"/>
                <a:cs typeface="Simplified Arabic"/>
              </a:rPr>
              <a:t>جلوســاً</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أناشـيد  ثـم القنــداق</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2" name="24417727XXNUYQqnJP_ph" descr=""/>
          <p:cNvPicPr/>
          <p:nvPr/>
        </p:nvPicPr>
        <p:blipFill>
          <a:blip r:embed="rId1"/>
          <a:stretch/>
        </p:blipFill>
        <p:spPr>
          <a:xfrm>
            <a:off x="0" y="0"/>
            <a:ext cx="48020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26653352dLerzNMpWg_ph" descr=""/>
          <p:cNvPicPr/>
          <p:nvPr/>
        </p:nvPicPr>
        <p:blipFill>
          <a:blip r:embed="rId1"/>
          <a:stretch/>
        </p:blipFill>
        <p:spPr>
          <a:xfrm>
            <a:off x="0" y="0"/>
            <a:ext cx="4151160" cy="6858000"/>
          </a:xfrm>
          <a:prstGeom prst="rect">
            <a:avLst/>
          </a:prstGeom>
          <a:ln w="0">
            <a:noFill/>
          </a:ln>
        </p:spPr>
      </p:pic>
      <p:sp>
        <p:nvSpPr>
          <p:cNvPr id="54" name=""/>
          <p:cNvSpPr/>
          <p:nvPr/>
        </p:nvSpPr>
        <p:spPr>
          <a:xfrm>
            <a:off x="4343400" y="304920"/>
            <a:ext cx="4343400" cy="81694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ffff"/>
                </a:solidFill>
                <a:latin typeface="Times New Roman"/>
                <a:ea typeface="Simplified Arabic"/>
              </a:rPr>
              <a:t>	</a:t>
            </a:r>
            <a:r>
              <a:rPr b="1" i="1" lang="ar-SA" sz="3600" spc="-1" strike="noStrike">
                <a:solidFill>
                  <a:srgbClr val="ffffff"/>
                </a:solidFill>
                <a:latin typeface="Times New Roman"/>
                <a:cs typeface="Simplified Arabic"/>
              </a:rPr>
              <a:t>يا نصيرة المسيحيين التي لا تخزى ووسيطتهم الدائمة لدى الخالق.لا تعرضي عن أصوات الخطأة الطالبين إليك، بل بما أنك صالحة، بادري إلى معونتنا نحن الصارخين إليك بإيمان:هلمي إلى الشفاعة واسرعي إلى الابتهال.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imes New Roman"/>
                <a:ea typeface="Simplified Arabic"/>
              </a:rPr>
              <a:t>	</a:t>
            </a:r>
            <a:r>
              <a:rPr b="1" i="1" lang="ar-SA" sz="3600" spc="-1" strike="noStrike">
                <a:solidFill>
                  <a:srgbClr val="ffffff"/>
                </a:solidFill>
                <a:latin typeface="Times New Roman"/>
                <a:cs typeface="Simplified Arabic"/>
              </a:rPr>
              <a:t>يا والدة الإله، المحامية دائماً عن مكرميك</a:t>
            </a:r>
            <a:r>
              <a:rPr b="1" i="1" lang="ar-SA"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0T08:19:57Z</dcterms:created>
  <dc:creator>SUZANNE.MD</dc:creator>
  <dc:description/>
  <dc:language>en-US</dc:language>
  <cp:lastModifiedBy>SUZANNE.MD</cp:lastModifiedBy>
  <dcterms:modified xsi:type="dcterms:W3CDTF">2003-01-23T06:56:43Z</dcterms:modified>
  <cp:revision>14</cp:revision>
  <dc:subject/>
  <dc:title>PowerPoint Presentation</dc:title>
</cp:coreProperties>
</file>